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0518-4A88-4F46-8267-35A2C7A8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CEFE-91DB-4E63-A754-E7D2007D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07B9-1A2E-4FA8-B94D-05605692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22BA-2D24-4986-9905-342E8B64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7C2D-C8D0-415B-AB91-5E88E7C8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6EB5-3484-4640-B90A-949E0151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B33D-C654-4D40-B5A2-C046CA71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E779-403D-4DD3-AA72-1772334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27BC-2DC3-448E-A0B7-C30F83B4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B202-DE62-4D6C-A4FE-231AFDDB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3AB9-2578-4287-AAEA-6576ECE2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53AB-5076-4879-9205-F0718477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8744-F504-4E50-A308-C3E400C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A575-3944-4AB5-8744-36DF681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C442-D7FD-4DEE-9234-F58C8DC6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7E20-8CE4-4C0E-B506-33DE7461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D904-3E9E-4CF7-A7FF-AABB04F5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119A-955E-4B02-9453-3BAD0C7B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548E-89FA-403A-9265-CB323D5C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64F6-98D0-42F2-90BD-4C10E79D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DD1B-E746-4D21-B93D-8FBFD7C1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04A63-7100-4E39-B3FD-53254D5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001F-AD08-4171-BBF6-0ACF34DD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2A63-0286-4319-959E-FB3688DC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4EC8-A8B7-48A0-AFFA-ADFD985C8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3CA5-92E5-4830-BB70-C86F95A94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tting the Puzzle Pieces Together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Three E’s of Independent Rea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: Anne Dollenmey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et Discus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to help guide the conver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were placed in a bucket and the groups picked from the bucket when they needed top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ime went on, students did not need the buckets as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 Card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meeting in their groups, students filled out an index card explaining one thing that was talked about in their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cards were also used to have students write to me about their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2767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I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ncepts are taught in reading or writing, students use their independent reading novel to find exa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162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cces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conversations happened due to fewer restr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guys, the book I picked it is actually kind of cool. It deals with ghosts and dead creat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, I like horror books. Sounds like something I might want to tr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leted Puzz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= Motivation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lt like I wanted to read and discover new books because I wanted to share my discoveries with my group memb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= Book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 made reading entertaining, exciting, and enjoy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ur Own Puzz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nvision this working in your own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Quick Wr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front of your index card, write one word that describes your feelings towards independent reading in your class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back explain why you selected that wor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olescent Respon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45720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oint to reading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te read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eachers always force me to rea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is bor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520" y="152352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better things to do with my ti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robably have to complete some stupid book report after we read a stupid book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38480" y="19047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to a student’s motivation to read when an independent reading program uses conversation to discuss boo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E’s of Reading: Entertaining, Exciting, Enjo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23623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uilding a Community of Read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3422520" cy="1866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choice is not really a choice at al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freedom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Interest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pping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Reads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84320" y="4000680"/>
            <a:ext cx="34113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side of Puzz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like to do after reading a good book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want to write a book report. Hate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are like movies, if it is good you want to talk to your friends abou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talk and share my thoughts abou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to do after they rea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5600" y="1981080"/>
            <a:ext cx="404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tructuring Literature Circ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based on gen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every other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tudent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was on reading and being prepared to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acher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per Bag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d the students to be prepared to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per bag was fun to complete and it made it so easy for me to discuss my book with my other group memb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28954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5:36:34Z</dcterms:created>
  <dc:creator>Kathy</dc:creator>
  <dc:description/>
  <dc:language>en-US</dc:language>
  <cp:lastModifiedBy>dollenmeyer_a</cp:lastModifiedBy>
  <dcterms:modified xsi:type="dcterms:W3CDTF">2010-09-10T19:52:15Z</dcterms:modified>
  <cp:revision>14</cp:revision>
  <dc:subject/>
  <dc:title>Fitting the Puzzle Pieces Together </dc:title>
</cp:coreProperties>
</file>